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5DD08-B394-43D2-97CF-5D0F21DFBC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ตัวยึดหมายเลขภาพนิ่ง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C1ABB-815B-4CFD-B4C8-3FE09A08FC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ตัวยึดหมายเลขภาพนิ่ง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3AD0A-282B-4BB9-A21F-23391D9BC4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ตัวยึดหมายเลขภาพนิ่ง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0AC9C-298B-4A73-8E0F-9E07F61B65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A9CDB-1900-47FA-8C37-EC62ED0C1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D0319-63AD-4E37-B8F2-D336F51C7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E31D9-9B0B-4631-A6FA-113EDF67B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5A681-8ED9-4AE0-B793-09ACC471F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4604E-5075-49FE-A8AF-0A24C5955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8D920-6EB8-4DD1-9D38-EE6E2C407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D9034-2A75-4810-BB49-F7AD8E62B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60D19-480B-4699-974E-D7B70D379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FC1EC-E565-43CC-B22D-7AC1288E5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647ED-2993-4F9F-959D-955166A00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7BF23-CD73-419E-B26D-7D5966442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AD030-2794-4899-9028-FDC25FCC6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5FBC4-81E4-479B-9AC5-2FD8DC5EC1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14240" y="428400"/>
            <a:ext cx="7772400" cy="1469880"/>
          </a:xfrm>
          <a:prstGeom prst="rect">
            <a:avLst/>
          </a:prstGeom>
          <a:solidFill>
            <a:srgbClr val="e6b9b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800" spc="-1" strike="noStrike">
                <a:solidFill>
                  <a:srgbClr val="000000"/>
                </a:solidFill>
                <a:latin typeface="Tahoma"/>
                <a:cs typeface="Tahoma"/>
              </a:rPr>
              <a:t>กลุ่ม </a:t>
            </a:r>
            <a:r>
              <a:rPr b="1" lang="en-US" sz="4800" spc="-1" strike="noStrike">
                <a:solidFill>
                  <a:srgbClr val="000000"/>
                </a:solidFill>
                <a:latin typeface="Tahoma"/>
                <a:ea typeface="Tahoma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571760" y="2071800"/>
            <a:ext cx="6400800" cy="17524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5400" spc="-1" strike="noStrike">
                <a:solidFill>
                  <a:srgbClr val="000000"/>
                </a:solidFill>
                <a:latin typeface="Tahoma"/>
                <a:cs typeface="Tahoma"/>
              </a:rPr>
              <a:t>การพัฒนานักศึกษา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Calibri"/>
                <a:cs typeface="Angsana New"/>
              </a:rPr>
              <a:t>ปัจจัยความสำเร็จ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88520" indent="-48852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Calibri"/>
                <a:cs typeface="Cordia New"/>
              </a:rPr>
              <a:t>จัดกิจกรรมเพื่อพัฒนานักศึกษา  เช่น  มีองค์การนักศึกษา ตั้งชมรมนักศึกษา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88520" indent="-48852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Calibri"/>
                <a:cs typeface="Cordia New"/>
              </a:rPr>
              <a:t>จัดตั้งคณะกรรมการ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/ </a:t>
            </a:r>
            <a:r>
              <a:rPr b="0" lang="th-TH" sz="3000" spc="-1" strike="noStrike">
                <a:solidFill>
                  <a:srgbClr val="000000"/>
                </a:solidFill>
                <a:latin typeface="Calibri"/>
                <a:cs typeface="Cordia New"/>
              </a:rPr>
              <a:t>หน่วยงานที่ดูแลนักศึกษา เช่น ฝ่ายพัฒนานักศึกษา  อาจารย์ที่ปรึกษา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88520" indent="-48852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Calibri"/>
                <a:cs typeface="Cordia New"/>
              </a:rPr>
              <a:t>พัฒนาบุคลากร </a:t>
            </a:r>
            <a:r>
              <a:rPr b="0" lang="th-TH" sz="3000" spc="-1" strike="noStrike">
                <a:solidFill>
                  <a:srgbClr val="000000"/>
                </a:solidFill>
                <a:latin typeface="Calibri"/>
                <a:ea typeface="Cordia New"/>
              </a:rPr>
              <a:t>/ </a:t>
            </a:r>
            <a:r>
              <a:rPr b="0" lang="th-TH" sz="3000" spc="-1" strike="noStrike">
                <a:solidFill>
                  <a:srgbClr val="000000"/>
                </a:solidFill>
                <a:latin typeface="Calibri"/>
                <a:cs typeface="Cordia New"/>
              </a:rPr>
              <a:t>เจ้าหน้าที่ที่ดูแลนักศึกษ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88520" indent="-48852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Calibri"/>
                <a:cs typeface="Cordia New"/>
              </a:rPr>
              <a:t>บูรณการด้านวิชาการและกิจกรรมนักศึกษาเข้าด้วยกัน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88520" indent="-48852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Calibri"/>
                <a:ea typeface="Cordia New"/>
              </a:rPr>
              <a:t>      </a:t>
            </a:r>
            <a:r>
              <a:rPr b="0" lang="th-TH" sz="3000" spc="-1" strike="noStrike">
                <a:solidFill>
                  <a:srgbClr val="000000"/>
                </a:solidFill>
                <a:latin typeface="Calibri"/>
                <a:cs typeface="Cordia New"/>
              </a:rPr>
              <a:t>เช่น สอดแทรกในการเรียนการสอน  มีรายวิชากิจกรรม              กำหนดหน่วยกิตของกิจกรรม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88520" indent="-48852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5. </a:t>
            </a:r>
            <a:r>
              <a:rPr b="0" lang="th-TH" sz="3000" spc="-1" strike="noStrike">
                <a:solidFill>
                  <a:srgbClr val="000000"/>
                </a:solidFill>
                <a:latin typeface="Calibri"/>
                <a:ea typeface="Cordia New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Calibri"/>
                <a:cs typeface="Cordia New"/>
              </a:rPr>
              <a:t>สร้างแรงจูงใจ เช่น  สนับสนุนงบประมาณในการจัดกิจกรรมให้นักศึกษา จัดเวทีให้นักศึกษาแสดงผลงาน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88520" indent="-48852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88520" indent="-48852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Calibri"/>
                <a:cs typeface="Angsana New"/>
              </a:rPr>
              <a:t>ปัจจัยความสำเร็จ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6. </a:t>
            </a:r>
            <a:r>
              <a:rPr b="0" lang="th-TH" sz="3200" spc="-1" strike="noStrike">
                <a:solidFill>
                  <a:srgbClr val="000000"/>
                </a:solidFill>
                <a:latin typeface="Calibri"/>
                <a:cs typeface="Cordia New"/>
              </a:rPr>
              <a:t>ผู้บริหารให้ความสำคัญและสนับสนุนในการจัดกิจกรรมกับนักศึกษ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7. </a:t>
            </a:r>
            <a:r>
              <a:rPr b="0" lang="th-TH" sz="3200" spc="-1" strike="noStrike">
                <a:solidFill>
                  <a:srgbClr val="000000"/>
                </a:solidFill>
                <a:latin typeface="Calibri"/>
                <a:cs typeface="Cordia New"/>
              </a:rPr>
              <a:t>มีเครื่องมือในการเก็บข้อมูลนักศึกษาที่เข้าร่วมกิจกรรม เช่น แบบฟอร์ม สมุดบันทึกการเข้าร่วมกิจกรรม เครื่องสแกนนิ้วมื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2T08:30:14Z</dcterms:created>
  <dc:creator>Valued Acer Customer</dc:creator>
  <dc:description/>
  <dc:language>en-US</dc:language>
  <cp:lastModifiedBy>Valued Acer Customer</cp:lastModifiedBy>
  <dcterms:modified xsi:type="dcterms:W3CDTF">2010-03-22T08:59:02Z</dcterms:modified>
  <cp:revision>8</cp:revision>
  <dc:subject/>
  <dc:title>กลุ่ม 2</dc:title>
</cp:coreProperties>
</file>